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1749-0478-41DE-B304-4322EFF5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E12-1DB9-4ADE-9824-BD11E8E6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9B7-772C-4CDF-9F29-B697B7F4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3DE-E131-42B4-9CE8-3490EBFF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EA38-45C0-4072-BEB0-8E1E59EA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89C1-F868-47D6-8622-C90D2D7A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D73B-9286-492F-AC73-EAAADCF9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1BD-C8A7-4CA3-AFD1-A3EC493B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7CFE-0E27-4DE7-9AC5-9DCC72A6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054-58C5-4651-AF16-1D73DFBD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802-8FAC-4A8F-9799-1F88920B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C40-57A4-43C0-A55C-C10849BE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D485-FE2C-40CD-85E1-E3B2ADB20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476280"/>
            <a:ext cx="7632720" cy="57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n you come i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 your books to the description of your family that you wrote on Thur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ve your book and move 2 people to your left (to your right if sat in the front 2 tab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A PENCIL check for the following elements and correct WHERE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cribing someone’s age = tiene… 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aying someone’s name = se llam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aying someone’s birthday= su cumpleaños es el… d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cribing someone’s personality = 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GREEMENTS!! E.g. mi hermana ES divert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411280" y="508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iene barb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6000" y="40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engo barb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067280" y="1413000"/>
            <a:ext cx="1000080" cy="3524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 flipV="1">
            <a:off x="5003640" y="2276280"/>
            <a:ext cx="72072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411280" y="508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iene bigo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56000" y="40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engo bigo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284720" y="1413000"/>
            <a:ext cx="981000" cy="3562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H="1" flipV="1">
            <a:off x="5003280" y="2133720"/>
            <a:ext cx="107964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411280" y="508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leva gaf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40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levo gaf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356000" y="1557360"/>
            <a:ext cx="936720" cy="3455640"/>
            <a:chOff x="4356000" y="1557360"/>
            <a:chExt cx="936720" cy="3455640"/>
          </a:xfrm>
        </p:grpSpPr>
        <p:sp>
          <p:nvSpPr>
            <p:cNvPr id="105" name=""/>
            <p:cNvSpPr/>
            <p:nvPr/>
          </p:nvSpPr>
          <p:spPr>
            <a:xfrm>
              <a:off x="4500720" y="1557360"/>
              <a:ext cx="792000" cy="10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59280" y="2573280"/>
              <a:ext cx="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427280" y="3608640"/>
              <a:ext cx="431640" cy="14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59280" y="3634200"/>
              <a:ext cx="289080" cy="137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4356000" y="3042360"/>
              <a:ext cx="50328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59280" y="3042360"/>
              <a:ext cx="36036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643280" y="1916280"/>
            <a:ext cx="216000" cy="1443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1916280"/>
            <a:ext cx="216000" cy="1443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858920" y="1989000"/>
            <a:ext cx="73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148360" y="1916280"/>
            <a:ext cx="144360" cy="7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500720" y="1844280"/>
            <a:ext cx="142560" cy="14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292720" y="1988640"/>
            <a:ext cx="71928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050920" y="260280"/>
            <a:ext cx="7093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i fami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rido Jaime,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acias por tu carta. Tienes una familia muy interesante. Mi familia es un poco fastidiosa. Mi padre tiene los ojos azules y está completamente calvo, es decir que no tiene pelo, también lleva barba y gafas. ¡Afortunadamente no me parezco mucho a mi padre! Sin embargo, mi madre es muy guapa: tiene los ojos verdes y el pelo moreno y es bastante alta y delgada, ¡me encanta mi madre!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 soy una mezcla de mi padre y mi madre: soy de talla mediana, como mi padre, y tengo los ojos verdes, como mi madr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ios y ¡escríbeme pronto!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Mi familia"/>
          <p:cNvPicPr/>
          <p:nvPr/>
        </p:nvPicPr>
        <p:blipFill>
          <a:blip r:embed="rId1"/>
          <a:stretch/>
        </p:blipFill>
        <p:spPr>
          <a:xfrm>
            <a:off x="106200" y="333360"/>
            <a:ext cx="1830600" cy="2735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8360" y="5877000"/>
            <a:ext cx="648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¿Qué significa &lt;&lt;gafas&gt;&gt;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5950080"/>
            <a:ext cx="648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¿Qué significa &lt;&lt;barba&gt;&gt;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5950080"/>
            <a:ext cx="648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¿Qué significa &lt;&lt;una mezcla&gt;&gt;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5432400"/>
            <a:ext cx="91440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Elena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A- looks like her father     B- doesn’t like how her mother looks     C- looks like both her father and moth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432400"/>
            <a:ext cx="88930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5. Elena’s mother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A- is tall and thin    B- has blonde hair and blue eyes            C- is of average si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5516640"/>
            <a:ext cx="8280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6. El padre de Elena es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A- muy guapo      B- no tiene pelo   C- es bastante al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5589720"/>
            <a:ext cx="64800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7. How does Elena describe her family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A- fortunate     B- interesting   C- bo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19640" y="404640"/>
            <a:ext cx="3024000" cy="602172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 p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 abu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 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 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y hijo ú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 her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 her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 ab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 t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y hija ú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19640" y="404640"/>
            <a:ext cx="3024000" cy="602172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vert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stidi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ez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ñ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im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ism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ez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vert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260280"/>
            <a:ext cx="2843280" cy="947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v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tate, sen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557360"/>
            <a:ext cx="849780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the members of the family and characteristic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learn how to describe someone physicall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play brain gy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read together a description of someone’s famil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47640" y="1341360"/>
            <a:ext cx="6696360" cy="304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bastante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qu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uy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v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un poco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a b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11280" y="508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Es alto /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26028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y alto /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356000" y="1052640"/>
            <a:ext cx="936720" cy="3960360"/>
            <a:chOff x="4356000" y="1052640"/>
            <a:chExt cx="936720" cy="3960360"/>
          </a:xfrm>
        </p:grpSpPr>
        <p:sp>
          <p:nvSpPr>
            <p:cNvPr id="51" name=""/>
            <p:cNvSpPr/>
            <p:nvPr/>
          </p:nvSpPr>
          <p:spPr>
            <a:xfrm>
              <a:off x="4500720" y="1052640"/>
              <a:ext cx="792000" cy="116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59280" y="2216880"/>
              <a:ext cx="0" cy="132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4427280" y="3403800"/>
              <a:ext cx="431640" cy="160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859280" y="3432600"/>
              <a:ext cx="289080" cy="158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356000" y="2754360"/>
              <a:ext cx="503280" cy="31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9280" y="2754360"/>
              <a:ext cx="360360" cy="31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411280" y="508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Es mediano /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00" y="40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y mediano /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356000" y="1557360"/>
            <a:ext cx="936720" cy="3455640"/>
            <a:chOff x="4356000" y="1557360"/>
            <a:chExt cx="936720" cy="3455640"/>
          </a:xfrm>
        </p:grpSpPr>
        <p:sp>
          <p:nvSpPr>
            <p:cNvPr id="60" name=""/>
            <p:cNvSpPr/>
            <p:nvPr/>
          </p:nvSpPr>
          <p:spPr>
            <a:xfrm>
              <a:off x="4500720" y="1557360"/>
              <a:ext cx="792000" cy="10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59280" y="2573280"/>
              <a:ext cx="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427280" y="3608640"/>
              <a:ext cx="431640" cy="14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59280" y="3634200"/>
              <a:ext cx="289080" cy="137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356000" y="3042360"/>
              <a:ext cx="50328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59280" y="3042360"/>
              <a:ext cx="36036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411280" y="508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Es bajo /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56000" y="40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y bajo /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356000" y="2852640"/>
            <a:ext cx="936720" cy="2160720"/>
            <a:chOff x="4356000" y="2852640"/>
            <a:chExt cx="936720" cy="2160720"/>
          </a:xfrm>
        </p:grpSpPr>
        <p:sp>
          <p:nvSpPr>
            <p:cNvPr id="69" name=""/>
            <p:cNvSpPr/>
            <p:nvPr/>
          </p:nvSpPr>
          <p:spPr>
            <a:xfrm>
              <a:off x="4500720" y="2852640"/>
              <a:ext cx="792000" cy="63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59280" y="3487680"/>
              <a:ext cx="0" cy="7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427280" y="4135320"/>
              <a:ext cx="43164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59280" y="4151160"/>
              <a:ext cx="289080" cy="86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4356000" y="3781080"/>
              <a:ext cx="50328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59280" y="3781080"/>
              <a:ext cx="36036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11280" y="508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Es delgado /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0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y delgado /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56000" y="1628640"/>
            <a:ext cx="936720" cy="3168720"/>
            <a:chOff x="4356000" y="1628640"/>
            <a:chExt cx="936720" cy="3168720"/>
          </a:xfrm>
        </p:grpSpPr>
        <p:sp>
          <p:nvSpPr>
            <p:cNvPr id="78" name=""/>
            <p:cNvSpPr/>
            <p:nvPr/>
          </p:nvSpPr>
          <p:spPr>
            <a:xfrm>
              <a:off x="4500720" y="1628640"/>
              <a:ext cx="792000" cy="79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59280" y="242100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4427280" y="3860640"/>
              <a:ext cx="431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59280" y="3860640"/>
              <a:ext cx="289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356000" y="2997360"/>
              <a:ext cx="5032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59280" y="2997360"/>
              <a:ext cx="360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 flipH="1" flipV="1">
            <a:off x="4932360" y="3573000"/>
            <a:ext cx="151128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11280" y="508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Es gordo /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56000" y="404640"/>
            <a:ext cx="4897440" cy="82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y gordo /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00720" y="1628640"/>
            <a:ext cx="792000" cy="79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27280" y="3860640"/>
            <a:ext cx="431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59280" y="386064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066920" y="292428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292428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5148360" y="3499920"/>
            <a:ext cx="151128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27640" y="2421000"/>
            <a:ext cx="792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2:07:50Z</dcterms:created>
  <dc:creator>Owner1</dc:creator>
  <dc:description/>
  <dc:language>en-US</dc:language>
  <cp:lastModifiedBy>Owner1</cp:lastModifiedBy>
  <dcterms:modified xsi:type="dcterms:W3CDTF">2008-12-08T17:26:20Z</dcterms:modified>
  <cp:revision>5</cp:revision>
  <dc:subject/>
  <dc:title>Slide 1</dc:title>
</cp:coreProperties>
</file>